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F8A5-EC56-4FB0-8AB3-6144C5384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EA3A-36AC-42DD-B822-4179D9628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348B-252B-4281-9F36-B328D56D2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C15B-60CD-4D65-A110-88BAA24B9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FDE9-3FAE-459C-A6B3-864D03043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6C33-6CAA-4155-98BC-7FC61EC97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1EA8-76CF-4AE0-992A-741B557E3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CD89-63E9-4386-B559-7F3C6E93C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48CD-8793-4AAB-B2B5-C813925BB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09FF-E72E-4941-A4CC-11349ED0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AE90-EBE4-47CC-BF8E-82DDAC79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6DFB-6B35-4B5F-AB57-D3B49B3A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2BAF1-68B2-4AB0-83E7-80A28BB26A8E}" type="datetime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92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452760" y="6359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E5839-DF99-478F-AEBC-C507D64B8CED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2514240"/>
            <a:ext cx="70102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JERRY Project Planning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&gt; Software &lt;</a:t>
            </a:r>
            <a:endParaRPr b="1" lang="en-US" sz="4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6296040" cy="14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Yang Yong Qi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PL S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BenQ Mobile, 28.02.2006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89C4-C002-4614-A341-27162A29773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    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PL-HW:     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Poul Erik Rask</a:t>
            </a:r>
            <a:r>
              <a:rPr b="0" lang="en-US" sz="36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(Aalborg / DK)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Experienced technical project leader of ODM projects: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CL50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ST55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ST60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CFX65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CL75 (Taiwan)</a:t>
            </a:r>
            <a:br>
              <a:rPr sz="2800"/>
            </a:b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Hardware project leader of JERRY (in Aalborg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AF35-4307-4100-ADF7-3A67E137DA3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    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PL-IM/DL:   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Allan Hansen 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(Aalborg / DK)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a0e66"/>
                </a:solidFill>
                <a:latin typeface="Minion"/>
              </a:rPr>
              <a:t>Software and Integration Manager of Projects like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PoC for Ulysses Refresh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“</a:t>
            </a: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Next generation software platform”</a:t>
            </a:r>
            <a:br>
              <a:rPr sz="2400"/>
            </a:b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Project leader Integration Management and Device Layer for JERRY (working in Beijing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B9EB-4599-4723-A08A-660EACE5A93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Part Project Leaders (PPL) working in Aal / DK: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Flemming Kokholm (JERRY: System Test): </a:t>
            </a:r>
            <a:br>
              <a:rPr sz="2800"/>
            </a:b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Venus (ODM), S56 Marlin, Aries, Cormorant 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Randi Bak (JERRY: Layout / Production Data): </a:t>
            </a:r>
            <a:br>
              <a:rPr sz="2800"/>
            </a:b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Xelibri X3, Hera, Cormorant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Flemming Bach Kristensen (JERRY: Digital HW): </a:t>
            </a:r>
            <a:br>
              <a:rPr sz="2800"/>
            </a:b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S56, C56, Janus, Venus, Robin, Wolf 4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Arne Bisgaard Kristensen (JERRY: EMC/Ant): Hera C65, C66, C70, C71, Pegasus AX75, AX76, AX72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Michael Brammer (JERRY: RF): </a:t>
            </a:r>
            <a:br>
              <a:rPr sz="2800"/>
            </a:b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HP4000, Dual com 738, World 718, Dual com 439/939, Dual GSM 300, SP55, SX1, Hydra.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011F-DAB9-4E81-9D84-787422EC861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    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PL SW:    Yang Yong Qiang (Beijing, PRC)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More than 9 years in software development Mobile phones and IS-95 CDMA Basestation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Leading Java topics in Beijing R&amp;D Center, BenQ/Siemens Mobile, incl. CLDC HI, DoJa, JSR177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PL SW Dorado and Libra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  <a:ea typeface="宋体"/>
              </a:rPr>
              <a:t>Software Project Leader of JERRY (in Beijing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D524-4B15-4A20-BC0D-44A65A56D70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	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PL Feature: Hu Chun Yan (Beijing, PRC)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More than 8 years in software development Mobile phone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Leading DoJa Development in Beijing R&amp;D Center, BenQ/Siemens Mobile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a0e66"/>
                </a:solidFill>
                <a:latin typeface="Minion"/>
                <a:ea typeface="宋体"/>
              </a:rPr>
              <a:t>Features Project Leader of JERRY (in Beijing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DBDC-072B-4F10-916F-2B93497C143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	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BenQ Beijing Development Team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More than 5 years SW development experience on average, with 2 years in BenQ/Siemens Mobile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System Architect: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Stefan Burkert (coach)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Chen Mian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Development Team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Cui Yi (Lead)                             Lu Qi Wen (SW Arch)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Song Wen Juan (SW Arch)       Yi Xiao Qiang (SE*)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Zhou Tong (SE*)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2 local consultant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宋体"/>
              </a:rPr>
              <a:t>-- SE* = Senior Engineer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0136-7396-4C64-9662-828331EB10F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	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SISL PL off-shore: Rajeev Chauhan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More than 11 years in software development and system testing for Mobile phone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UMTS NodeB OAM, transportation systems and protocol development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a0e66"/>
                </a:solidFill>
                <a:latin typeface="Minion"/>
                <a:ea typeface="宋体"/>
              </a:rPr>
              <a:t>Leader of the UI development team in India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3B51-D2BD-4F4E-B2CC-5088A14DEA3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SL Development Team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More than 5 years SW development experience on average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Rajeev Bhatia: Architect AppMsg (messaging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Sunisha Aggarwal: Architect AppBase/Avatar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Gagan Kashyap: Architect AppBase/AppIDC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25 SW Engineers (with 2 - 11 years experience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9065-645E-4BE0-A3ED-D5EB11C34C5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Software Project going AG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825480"/>
            <a:ext cx="837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BACKLOG = list of all tasks to be performed        [Ref.:    C75-Aries / SGlite SW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53880" y="1239840"/>
            <a:ext cx="8394840" cy="500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0B05-C663-4479-9D57-9599B7DC628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Software Project going AG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825480"/>
            <a:ext cx="837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BACKLOG (continued)        [Ref.:    C75-Aries / SGlite SW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01760" y="1252440"/>
            <a:ext cx="8332560" cy="4407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B48E-4027-4CF2-ADF1-63FA7199A78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CONTENT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305920" cy="10670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Resource Profile   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81080"/>
            <a:ext cx="8305920" cy="1600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Pla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8000-A8BE-46EA-AE3A-BFBD3E31693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Software Project going AG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825480"/>
            <a:ext cx="837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BACKLOG (continued)        [Ref.:    C75-Aries / SGlite SW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19040" y="1263600"/>
            <a:ext cx="8305920" cy="446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5435-69FE-4DBB-876A-7BF69FF5846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3a0e66"/>
                </a:solidFill>
                <a:latin typeface="Minion"/>
              </a:rPr>
              <a:t>JERRY – SW Implementation in Sprints (I.1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85920" y="992160"/>
            <a:ext cx="8346960" cy="484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09C5-FA7B-488C-B0AB-210895E9FE7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3a0e66"/>
                </a:solidFill>
                <a:latin typeface="Minion"/>
              </a:rPr>
              <a:t>JERRY – SW Implementation in Sprints (I.2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07880" y="976320"/>
            <a:ext cx="8339400" cy="4713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6DAA-F167-40C7-8BD0-79EF37988E6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3a0e66"/>
                </a:solidFill>
                <a:latin typeface="Minion"/>
              </a:rPr>
              <a:t>JERRY – SW Implementation in Sprints (I.3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07880" y="958680"/>
            <a:ext cx="8348760" cy="324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6263-2D1C-42DD-B48D-62E5528BF30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3a0e66"/>
                </a:solidFill>
                <a:latin typeface="Minion"/>
              </a:rPr>
              <a:t>JERRY – SW Implementation in Sprints (I.4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09680" y="950760"/>
            <a:ext cx="8324640" cy="369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5DB3-7C99-45B4-BC4D-73AE9E24231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3a0e66"/>
                </a:solidFill>
                <a:latin typeface="Minion"/>
              </a:rPr>
              <a:t>JERRY – SW Implementation in Sprints (II.1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53880" y="988920"/>
            <a:ext cx="8394840" cy="5200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9551-674F-4CB8-B7B4-526EF8856FC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3a0e66"/>
                </a:solidFill>
                <a:latin typeface="Minion"/>
              </a:rPr>
              <a:t>JERRY – SW Implementation in Sprints (II.2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57120" y="984240"/>
            <a:ext cx="8393040" cy="371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B49B-2D8E-4137-9AE1-6B22B54A6B3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3a0e66"/>
                </a:solidFill>
                <a:latin typeface="Minion"/>
              </a:rPr>
              <a:t>JERRY – SW Implementation in Sprints (III.1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53880" y="985680"/>
            <a:ext cx="8385480" cy="438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08F3-93BC-4A30-8D89-1489F45A5F7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3a0e66"/>
                </a:solidFill>
                <a:latin typeface="Minion"/>
              </a:rPr>
              <a:t>JERRY – SW Implementation in Sprints (III.2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57120" y="988920"/>
            <a:ext cx="8391600" cy="4081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D80F-E798-459F-8D46-36A2E1E9674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3a0e66"/>
                </a:solidFill>
                <a:latin typeface="Minion"/>
              </a:rPr>
              <a:t>JERRY – SW Implementation in Sprints (III.3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53880" y="982800"/>
            <a:ext cx="8390160" cy="383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F4E2-90CB-43C1-9AE0-B0B92E59A23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8000" y="115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BenQ Siemens Jerry –Org Chart per site &amp;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73480" y="816120"/>
            <a:ext cx="1874880" cy="43812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PM </a:t>
            </a:r>
            <a:r>
              <a:rPr b="1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Koh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KhengWa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48436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-T Arjen Broe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036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-T Lars Bon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4036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-T Sara </a:t>
            </a:r>
            <a:r>
              <a:rPr b="1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S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48360" y="235116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lanning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948360" y="278280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L CM/IM/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948360" y="321480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48360" y="364644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L Q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48360" y="407844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L M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948360" y="451008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T 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48360" y="494352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948360" y="530208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L- H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11280" y="1844640"/>
            <a:ext cx="338472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867280" y="1844640"/>
            <a:ext cx="273708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1844640"/>
            <a:ext cx="201744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242100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 SW </a:t>
            </a:r>
            <a:r>
              <a:rPr b="1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Yang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Y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285264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W Archit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328464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W Q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06560" y="5075280"/>
            <a:ext cx="2475000" cy="5540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rd Party: SISL Indi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PM </a:t>
            </a:r>
            <a:r>
              <a:rPr b="1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Zhang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Shua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76720" y="371628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ystem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88600" y="1482840"/>
            <a:ext cx="196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jing:  Software / 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60440" y="1463760"/>
            <a:ext cx="224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alborg:  HW / Mechan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3520" y="1268280"/>
            <a:ext cx="18295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jing / Shangha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usiness 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414972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285264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CM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321300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ccessory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57336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ariant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393228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ustomer C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429264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pplication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5280" y="465300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trategy Procur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01336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537228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O 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673F-1BCA-487E-B37B-BB3E6B45BFB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3a0e66"/>
                </a:solidFill>
                <a:latin typeface="Minion"/>
              </a:rPr>
              <a:t>JERRY – SW Implementation in Sprints (IV.1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57120" y="981000"/>
            <a:ext cx="8396280" cy="36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400E-1B1D-419E-901E-1B9AF0E1B84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3a0e66"/>
                </a:solidFill>
                <a:latin typeface="Minion"/>
              </a:rPr>
              <a:t>JERRY – SW Implementation in Sprints (IV.2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53880" y="976320"/>
            <a:ext cx="8404200" cy="39132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454040" y="5175360"/>
            <a:ext cx="6112080" cy="82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600E-D898-4A51-9B39-4BCE129FD98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60360" y="1211400"/>
            <a:ext cx="3971880" cy="5014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332240" y="1211400"/>
            <a:ext cx="3971880" cy="5014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Key Milestone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82760" y="1288800"/>
            <a:ext cx="5208480" cy="46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M0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3-02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0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8-02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M1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1-03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15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5-04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2/S25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18-07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3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17-08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PS: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02-10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DS: 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09-10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2" name=""/>
          <p:cNvSpPr/>
          <p:nvPr/>
        </p:nvSpPr>
        <p:spPr>
          <a:xfrm>
            <a:off x="3875760" y="1333440"/>
            <a:ext cx="477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Agreed Product Backlog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03 M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30440" y="4049640"/>
            <a:ext cx="388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B1(</a:t>
            </a:r>
            <a:r>
              <a:rPr b="1" lang="de-DE" sz="1800" spc="-1" strike="noStrike" baseline="30000">
                <a:solidFill>
                  <a:srgbClr val="cc0000"/>
                </a:solidFill>
                <a:latin typeface="Minion"/>
                <a:ea typeface="文鼎中黑"/>
              </a:rPr>
              <a:t>+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) samples to VF: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10 Jul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73240" y="5129280"/>
            <a:ext cx="480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Start acceptance tests: 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10 Jul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07760" y="5797440"/>
            <a:ext cx="397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Global SW approval: 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29 Sep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63400" y="771480"/>
            <a:ext cx="40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Software Milestones (Ag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9240" y="77148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Product Milest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26840" y="1752480"/>
            <a:ext cx="56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print 1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+ Demo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03 Ap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341240" y="2068560"/>
            <a:ext cx="38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VF Feedback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07 Ap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14240" y="2570040"/>
            <a:ext cx="57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print 2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+ Demo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04 Ma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328640" y="2886120"/>
            <a:ext cx="388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VF Feedback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11 Ma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6840" y="3351240"/>
            <a:ext cx="55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print 3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+ Demo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05 Ju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41240" y="3666960"/>
            <a:ext cx="37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VF Feedback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09 Ju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34760" y="4465800"/>
            <a:ext cx="550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print 4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+ Demo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10 Ju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91960" y="4781520"/>
            <a:ext cx="459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25-SW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10 Ju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34760" y="5467320"/>
            <a:ext cx="382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3-SW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28 Jul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90BA-D393-4176-ADB2-01BD6AA2A4F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66247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Jerry Vodafone Approval plan (SGL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1004760" y="980640"/>
            <a:ext cx="180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144936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95400" y="980640"/>
            <a:ext cx="180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343240" y="980640"/>
            <a:ext cx="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2787480" y="980640"/>
            <a:ext cx="180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23064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56052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4123800" y="980640"/>
            <a:ext cx="176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4564080" y="980640"/>
            <a:ext cx="468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5016600" y="980640"/>
            <a:ext cx="3024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5435640" y="980640"/>
            <a:ext cx="792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6351480" y="980640"/>
            <a:ext cx="2232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660840" y="980640"/>
            <a:ext cx="1908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804000" y="1052640"/>
            <a:ext cx="1440" cy="5472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730728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5867280" y="980640"/>
            <a:ext cx="792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04000" y="1700280"/>
            <a:ext cx="465120" cy="0"/>
          </a:xfrm>
          <a:prstGeom prst="line">
            <a:avLst/>
          </a:prstGeom>
          <a:ln w="38160">
            <a:solidFill>
              <a:srgbClr val="80008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607080" y="3878280"/>
            <a:ext cx="1508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372360" y="1052640"/>
            <a:ext cx="15062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VF fi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ccep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164360" y="1628640"/>
            <a:ext cx="120600" cy="14472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38480" y="1697040"/>
            <a:ext cx="3989160" cy="3240"/>
          </a:xfrm>
          <a:prstGeom prst="line">
            <a:avLst/>
          </a:prstGeom>
          <a:ln w="38160">
            <a:solidFill>
              <a:srgbClr val="80008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441360" y="1696680"/>
            <a:ext cx="1531800" cy="34920"/>
          </a:xfrm>
          <a:prstGeom prst="line">
            <a:avLst/>
          </a:prstGeom>
          <a:ln w="38160">
            <a:solidFill>
              <a:srgbClr val="800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156360" y="1628640"/>
            <a:ext cx="122040" cy="14472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380360" y="1844640"/>
            <a:ext cx="1085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tart shi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64040" y="1314360"/>
            <a:ext cx="180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CF / TA s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39760" y="1625760"/>
            <a:ext cx="119160" cy="14436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76360" y="2492280"/>
            <a:ext cx="825480" cy="144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276720" y="2491920"/>
            <a:ext cx="3527280" cy="144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04000" y="2492280"/>
            <a:ext cx="466920" cy="144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65160" y="2666880"/>
            <a:ext cx="180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e-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65480" y="2685960"/>
            <a:ext cx="361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cceptance t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513480" y="2852640"/>
            <a:ext cx="1084320" cy="3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101080" y="2276640"/>
            <a:ext cx="1440" cy="2616120"/>
          </a:xfrm>
          <a:prstGeom prst="line">
            <a:avLst/>
          </a:prstGeom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27280" y="2060640"/>
            <a:ext cx="361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8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32000" y="4221000"/>
            <a:ext cx="174600" cy="235080"/>
          </a:xfrm>
          <a:prstGeom prst="triangle">
            <a:avLst>
              <a:gd name="adj" fmla="val 57144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771640" y="4653000"/>
            <a:ext cx="16416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Test Phase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859280" y="4941720"/>
            <a:ext cx="173160" cy="2350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59280" y="4941720"/>
            <a:ext cx="11336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2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59280" y="4869000"/>
            <a:ext cx="172800" cy="233280"/>
          </a:xfrm>
          <a:prstGeom prst="triangle">
            <a:avLst>
              <a:gd name="adj" fmla="val 57144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003640" y="4292640"/>
            <a:ext cx="173160" cy="235080"/>
          </a:xfrm>
          <a:prstGeom prst="triangle">
            <a:avLst>
              <a:gd name="adj" fmla="val 50000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641120" y="4653000"/>
            <a:ext cx="144108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Test Phas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6298560" y="4365720"/>
            <a:ext cx="1441080" cy="536400"/>
            <a:chOff x="6298560" y="4365720"/>
            <a:chExt cx="1441080" cy="536400"/>
          </a:xfrm>
        </p:grpSpPr>
        <p:sp>
          <p:nvSpPr>
            <p:cNvPr id="210" name=""/>
            <p:cNvSpPr/>
            <p:nvPr/>
          </p:nvSpPr>
          <p:spPr>
            <a:xfrm>
              <a:off x="6701760" y="4365720"/>
              <a:ext cx="173160" cy="234000"/>
            </a:xfrm>
            <a:prstGeom prst="triangle">
              <a:avLst>
                <a:gd name="adj" fmla="val 50000"/>
              </a:avLst>
            </a:prstGeom>
            <a:solidFill>
              <a:srgbClr val="bad1e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98560" y="4651920"/>
              <a:ext cx="144108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t">
              <a:sp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2b5d"/>
                  </a:solidFill>
                  <a:latin typeface="Arial"/>
                </a:rPr>
                <a:t>Start Test Phase 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1403280" y="4292640"/>
            <a:ext cx="173160" cy="235080"/>
          </a:xfrm>
          <a:prstGeom prst="triangle">
            <a:avLst>
              <a:gd name="adj" fmla="val 57144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85840" y="4633920"/>
            <a:ext cx="108432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Pre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348000" y="4869000"/>
            <a:ext cx="1008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2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2700000" y="5494320"/>
            <a:ext cx="4692960" cy="259920"/>
            <a:chOff x="2700000" y="5494320"/>
            <a:chExt cx="4692960" cy="259920"/>
          </a:xfrm>
        </p:grpSpPr>
        <p:sp>
          <p:nvSpPr>
            <p:cNvPr id="216" name=""/>
            <p:cNvSpPr/>
            <p:nvPr/>
          </p:nvSpPr>
          <p:spPr>
            <a:xfrm flipH="1">
              <a:off x="2699640" y="5502240"/>
              <a:ext cx="198360" cy="203400"/>
            </a:xfrm>
            <a:prstGeom prst="flowChartExtra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4314240" y="5502240"/>
              <a:ext cx="199800" cy="203400"/>
            </a:xfrm>
            <a:prstGeom prst="flowChartExtra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6188040" y="5502240"/>
              <a:ext cx="200160" cy="203400"/>
            </a:xfrm>
            <a:prstGeom prst="flowChartExtra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459320" y="5499000"/>
              <a:ext cx="113508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</a:rPr>
                <a:t>SW Drop 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25640" y="5504040"/>
              <a:ext cx="113184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</a:rPr>
                <a:t>SW Drop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259320" y="5494320"/>
              <a:ext cx="113364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</a:rPr>
                <a:t>SW Drop 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324000" y="4192560"/>
            <a:ext cx="7777080" cy="2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0080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939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493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3385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7828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25960" y="41194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6702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133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56160" y="41194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0007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4212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8636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372360" y="414972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04000" y="414972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308720" y="414972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634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62760" y="400536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570640" y="4005360"/>
            <a:ext cx="1364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489720" y="401652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948360" y="400536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4640" y="401328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95520" y="4013280"/>
            <a:ext cx="1317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103400" y="401328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050920" y="4005360"/>
            <a:ext cx="1335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502000" y="401328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943360" y="401328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116680" y="4016520"/>
            <a:ext cx="1364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87920" y="401652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365640" y="400536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51280" y="402444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286160" y="4024440"/>
            <a:ext cx="1317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014480" y="4849920"/>
            <a:ext cx="172800" cy="233280"/>
          </a:xfrm>
          <a:prstGeom prst="triangle">
            <a:avLst>
              <a:gd name="adj" fmla="val 57144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258920" y="4869000"/>
            <a:ext cx="11318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1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1244880" y="3306960"/>
            <a:ext cx="6879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10.07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344520" y="5494320"/>
            <a:ext cx="200160" cy="20160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6360" y="5497560"/>
            <a:ext cx="11318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SW Drop Pre</a:t>
            </a: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rot="16200000">
            <a:off x="73440" y="3756240"/>
            <a:ext cx="39708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-720" bIns="46080" anchor="t" vert="eaVer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52440" y="2773440"/>
            <a:ext cx="3319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Arial"/>
              </a:rPr>
              <a:t>S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988360" y="2881440"/>
            <a:ext cx="2448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Arial"/>
              </a:rPr>
              <a:t>S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812000" y="414972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24720" y="400536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7124040" y="3326040"/>
            <a:ext cx="7207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2.10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6620760" y="3324240"/>
            <a:ext cx="7207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25.09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rot="16200000">
            <a:off x="3038760" y="3375000"/>
            <a:ext cx="6879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31.07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16200000">
            <a:off x="4838040" y="3378240"/>
            <a:ext cx="6825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28.8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809800" y="2492280"/>
            <a:ext cx="393840" cy="144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411280" y="2492280"/>
            <a:ext cx="287640" cy="144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411280" y="2060640"/>
            <a:ext cx="10083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ugfix +re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9891-A546-4533-8036-CC3FE8ACE91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60360" y="1211400"/>
            <a:ext cx="3971880" cy="5014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32240" y="1211400"/>
            <a:ext cx="3971880" cy="5014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Key Milestone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82760" y="1288800"/>
            <a:ext cx="5208480" cy="46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M0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3-02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0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8-02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M1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1-03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15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5-04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2/S25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18-07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3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17-08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PS: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02-10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DS: 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09-10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5" name=""/>
          <p:cNvSpPr/>
          <p:nvPr/>
        </p:nvSpPr>
        <p:spPr>
          <a:xfrm>
            <a:off x="4205880" y="1746360"/>
            <a:ext cx="25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=      Design Freez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330440" y="2954160"/>
            <a:ext cx="388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B1(</a:t>
            </a:r>
            <a:r>
              <a:rPr b="1" lang="de-DE" sz="1800" spc="-1" strike="noStrike" baseline="30000">
                <a:solidFill>
                  <a:srgbClr val="cc0000"/>
                </a:solidFill>
                <a:latin typeface="Minion"/>
                <a:ea typeface="文鼎中黑"/>
              </a:rPr>
              <a:t>+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) samples to VF: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03 Jul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4400" y="3251160"/>
            <a:ext cx="480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Start acceptance tests: 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10 Jul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307760" y="4603680"/>
            <a:ext cx="397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Global SW approval: 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29 Sep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75760" y="5572080"/>
            <a:ext cx="477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Shipment to Opcos by:  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13 Oc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203000" y="771480"/>
            <a:ext cx="321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Customer Milest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9240" y="77148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Product Milest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2FB0-27BD-4EB8-A7D5-07A90E8DA52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495720" y="763560"/>
            <a:ext cx="4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Jerry Project Pla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613404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57200" y="804960"/>
            <a:ext cx="847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363320" y="7635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78440" y="76356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152160" y="76356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086360" y="763560"/>
            <a:ext cx="47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J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951800" y="763560"/>
            <a:ext cx="41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J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46320" y="763560"/>
            <a:ext cx="53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45960" y="763560"/>
            <a:ext cx="4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513920" y="763560"/>
            <a:ext cx="49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384760" y="7635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44600" y="1033560"/>
            <a:ext cx="847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23720" y="792000"/>
            <a:ext cx="0" cy="531504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1752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773600" y="816120"/>
            <a:ext cx="0" cy="532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66244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551640" y="816120"/>
            <a:ext cx="0" cy="532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44048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331120" y="7905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121760" y="1096920"/>
            <a:ext cx="38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81200" y="1096920"/>
            <a:ext cx="44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83720" y="109692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84200" y="1096920"/>
            <a:ext cx="38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984280" y="1109520"/>
            <a:ext cx="38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569640" y="1096920"/>
            <a:ext cx="38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113600" y="109692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419240" y="1096920"/>
            <a:ext cx="71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3/S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673640" y="1096920"/>
            <a:ext cx="44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10672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995560" y="816120"/>
            <a:ext cx="0" cy="532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88476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095480" y="1650960"/>
            <a:ext cx="15872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711520" y="1650960"/>
            <a:ext cx="11588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1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908520" y="1650960"/>
            <a:ext cx="12636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199120" y="1650960"/>
            <a:ext cx="13208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791400" y="1650960"/>
            <a:ext cx="9302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Ramp-U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95580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120960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57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272088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512136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60865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66517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20396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76867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085760" y="1484280"/>
            <a:ext cx="0" cy="467856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27320" y="147168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886040" y="14209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51200" y="14209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23872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203880" y="145908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78168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33428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82964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529320" y="1695600"/>
            <a:ext cx="26352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ilot Ru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076400" y="2212920"/>
            <a:ext cx="7398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Design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Free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835280" y="2212920"/>
            <a:ext cx="9777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Design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832120" y="2212920"/>
            <a:ext cx="9399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Hard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08440" y="2212920"/>
            <a:ext cx="131112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lastic Parts 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143680" y="2212920"/>
            <a:ext cx="13395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lastic Parts 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182600" y="2852640"/>
            <a:ext cx="9003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101680" y="2852640"/>
            <a:ext cx="9003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030480" y="2852640"/>
            <a:ext cx="9000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51360" y="2852640"/>
            <a:ext cx="9000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114560" y="3252960"/>
            <a:ext cx="95868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pc simu setu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-up / power on dialo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Phone spaces, colour schemes, icons, fo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ice call screen bas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enu look and feel bas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Contact list and menu op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Remove or disable or hide fe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104920" y="3252960"/>
            <a:ext cx="93024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up As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up/ power on dialogu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Contact list &amp; menu op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creen Trans. (Sliding Effec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lume Side, Ringer Side &amp; and lock k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ync. incl. remote sync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ettin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iew Contact Lo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Remove,disable or hide fe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048120" y="3252960"/>
            <a:ext cx="93024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up As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ice call screens full func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ice messag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sgA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enu look &amp; Feel – full compli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Contact List &amp; Menu Op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creen Transitions (Sliding Effec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iew contact lo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Remove, disable or hide fe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F Simply Alarm Cloc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014720" y="3252960"/>
            <a:ext cx="93996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nterruption by eve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leep mode with timer settin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Text messages (SM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hover functionality in Contact li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F Simply Alar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sgA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57200" y="2714760"/>
            <a:ext cx="8077320" cy="9360"/>
          </a:xfrm>
          <a:prstGeom prst="line">
            <a:avLst/>
          </a:prstGeom>
          <a:ln w="38160">
            <a:solidFill>
              <a:srgbClr val="66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1480" y="1690560"/>
            <a:ext cx="1011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Hard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060640" y="5856120"/>
            <a:ext cx="647640" cy="455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Sprint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Approv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045200" y="5816520"/>
            <a:ext cx="1316160" cy="398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Global SW Approv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7043760" y="559044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2280" y="2246400"/>
            <a:ext cx="10645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echan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6800" y="2854440"/>
            <a:ext cx="925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002040" y="5848200"/>
            <a:ext cx="647640" cy="455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Sprint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Approv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898800" y="5856120"/>
            <a:ext cx="647640" cy="455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Sprint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Approv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664240" y="5324400"/>
            <a:ext cx="1658880" cy="260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Sprint 4</a:t>
            </a: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 Approval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842000" y="5324400"/>
            <a:ext cx="771480" cy="347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Pre-Tes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A23F-E255-4EF8-9AFC-A18D202E40EA}" type="slidenum">
              <a:t>35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08000" y="115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BenQ Siemens Jerry –Org Chart per site &amp;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38040" y="603360"/>
            <a:ext cx="8229600" cy="6018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4294-A204-4CFD-A0BE-02BBF86EC83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Project organization - Device Layer 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0" y="1108080"/>
          <a:ext cx="9144000" cy="512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08080"/>
                    <a:ext cx="9144000" cy="512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C087-2415-438D-A77B-0183928C45A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Integration Management suppor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79280" y="1052640"/>
          <a:ext cx="407664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052640"/>
                    <a:ext cx="40766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3924360" y="3573360"/>
          <a:ext cx="4437000" cy="297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3573360"/>
                    <a:ext cx="4437000" cy="29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EF22-7EEB-4F94-8715-DBF49FD319D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Meaning of Acronym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3722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Organizational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QA 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  = Quality Assurance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HW   = Hardware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MD    = Mechanical Design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ST 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  = System Test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LCM  = Lifecycle Management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NPI 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  = New Products Introduction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4" name=""/>
          <p:cNvSpPr/>
          <p:nvPr/>
        </p:nvSpPr>
        <p:spPr>
          <a:xfrm>
            <a:off x="4772160" y="990720"/>
            <a:ext cx="401004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Project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CPM = Category Product Mana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PL-T = Technical Project L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TPM = Technical Product Mana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BA 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 = Business Administ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3373560"/>
            <a:ext cx="4010040" cy="26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Technical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CA 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 = Core 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IM 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 = Integration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BM 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 = Build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CM  = Configuration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CIT 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 = Core Integration T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CDB = Component Data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IDB 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 = Integration Data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A26B-3077-4D1D-831F-09B609EEAD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    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PL-T:          Lars Bonde (Aalborg / Denmark)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Experienced</a:t>
            </a: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 leader of ODM projects 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Xelebri GPRS module (developed in France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Xelibri X8 (Developed in FIN / DK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Luna (Developed in Taiwan) 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Mars CC75 (Developed in Finland)</a:t>
            </a:r>
            <a:br>
              <a:rPr sz="2800"/>
            </a:b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Technical Project Leader of JERRY in Aalborg - responsible for all work-packages assigned to Aalborg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0E4B-64C9-4BFE-A7C9-60C412FB3D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    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PL-MD:     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hristian P. Nielsen (Aalborg / DK)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Experienced</a:t>
            </a: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 leader of mechanical projects: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Dual 909, Dual 909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Xelibri X3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Hera Nop1, 2 and 3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Cormorant</a:t>
            </a:r>
            <a:br>
              <a:rPr sz="2800"/>
            </a:b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Mechanical project leader of JERRY (in Aalborg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3D10-4739-4980-A0DB-5610D98885E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/>
  <dc:description/>
  <dc:language>en-US</dc:language>
  <cp:lastModifiedBy/>
  <dcterms:modified xsi:type="dcterms:W3CDTF">2006-02-28T12:12:17Z</dcterms:modified>
  <cp:revision>239</cp:revision>
  <dc:subject/>
  <dc:title>PowerPoint</dc:title>
</cp:coreProperties>
</file>